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11CE-BB96-4ABE-A022-37C90E265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B514-72AE-42AA-B4CC-3A2BBEBA9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6F7E-EA0C-4306-AA2E-87259054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AB13-D13C-4175-8DA1-E30B7C6F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556F-6FA3-40D6-B23A-01E56CEC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9899-92F9-4772-A04E-D80B3863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586A-8118-4E87-B648-06215DBB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E707-A32C-46AF-B0A0-D87E5ED0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4946-E188-4B83-A2A1-4C1909EC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61CC-11DD-4286-9C5E-24026443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69D8-D474-4D78-9A21-491EC0AC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3D34-9CE4-4311-9F94-F4F3C818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09A3-9D72-488B-BD67-83D95BBD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BB52-A643-48B3-8BED-A558D8C6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0CFE-E146-4A31-A277-E11BD48D9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  Clase 6nh(601)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7 de febr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0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e gusta tu escue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10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(1-4) p.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Repaso de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1905120" cy="1238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3124080" y="12952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5257800" y="1447920"/>
            <a:ext cx="1905120" cy="1465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4"/>
          <a:stretch/>
        </p:blipFill>
        <p:spPr>
          <a:xfrm>
            <a:off x="457200" y="3743280"/>
            <a:ext cx="1676520" cy="1590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5"/>
          <a:stretch/>
        </p:blipFill>
        <p:spPr>
          <a:xfrm>
            <a:off x="7315200" y="914400"/>
            <a:ext cx="1571760" cy="2095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6"/>
          <a:stretch/>
        </p:blipFill>
        <p:spPr>
          <a:xfrm>
            <a:off x="2743200" y="3833640"/>
            <a:ext cx="1511280" cy="1652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7"/>
          <a:stretch/>
        </p:blipFill>
        <p:spPr>
          <a:xfrm>
            <a:off x="4749840" y="3886200"/>
            <a:ext cx="168912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8"/>
          <a:stretch/>
        </p:blipFill>
        <p:spPr>
          <a:xfrm>
            <a:off x="6781680" y="3962520"/>
            <a:ext cx="2028960" cy="20955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2"/>
          <p:cNvSpPr/>
          <p:nvPr/>
        </p:nvSpPr>
        <p:spPr>
          <a:xfrm>
            <a:off x="60948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Gorro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3200400" y="28954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Zapatos </a:t>
            </a: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(de vest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5486400" y="30481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Zapatos de t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7391520" y="3048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orb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533520" y="5410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Me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38088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alcet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2743200" y="5562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amis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4724280" y="54864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antalones cor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7162920" y="6019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am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8088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pia y respon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jercicio 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1-7) p.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pia y respon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jercicio 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1-9) p.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pia y respon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jercicio 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1-6) p.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609480" y="422100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57200" y="51055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leta p.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14:32:32Z</dcterms:created>
  <dc:creator>Helen Zumaeta</dc:creator>
  <dc:description/>
  <dc:language>en-US</dc:language>
  <cp:lastModifiedBy>Helen Zumaeta</cp:lastModifiedBy>
  <cp:lastPrinted>2013-02-27T19:23:12Z</cp:lastPrinted>
  <dcterms:modified xsi:type="dcterms:W3CDTF">2013-02-28T22:12:38Z</dcterms:modified>
  <cp:revision>24</cp:revision>
  <dc:subject/>
  <dc:title>Me llamo __________   Clase 8 IM La fecha es el 21 de enero del 2010</dc:title>
</cp:coreProperties>
</file>